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256C-572A-414F-B0A5-7941D4996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0B46-70A8-4B7A-B536-F61EB787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08D5-7EEF-4B46-B5F3-F848FCF7E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A968-7B65-46FD-8708-E2160F554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705A-1134-4985-A590-34B64D867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D336-8144-49C2-B290-FBC4221E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38E7-E9D7-4FEE-BE15-E4446FDA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A0C6-F4AB-4EA7-9A70-DA5F0C59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D256-AE34-4118-8DA9-C8ADE612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8135-C1CC-430B-81E8-8FD1448F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8BB8-7213-4FED-944A-218015A7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B3F8-EEC2-4177-8936-653A09EE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C0F2-59C6-4880-BEF4-941F9260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FA2F-2E2A-470A-A81C-C41CBEA4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77D4-CACC-4E2D-8B08-572F409C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FF88-B442-4F62-9364-624D5B29E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F701-4505-4581-8B1B-7E1809FEC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599E-90C6-4F23-99B1-FAB1CB21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9A85-F6CE-4E5E-8360-0C289E43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9AB0-9D15-4334-B3EF-0C8E9A95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CAD1-43D2-4EA4-966D-3097AAF8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A0C4-C324-4AAE-A896-C0C14BB4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E541-2C94-4E60-8FD9-E2152E9E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ECB4-75AD-417B-8435-4DCF2A33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8e4"/>
                </a:gs>
                <a:gs pos="100000">
                  <a:srgbClr val="0068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7120" cy="827280"/>
              <a:chOff x="5600880" y="5897520"/>
              <a:chExt cx="125712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32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616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48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264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356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ba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483FAA-79DB-450B-AEA2-EFF86360ECF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8e4"/>
                </a:gs>
                <a:gs pos="100000">
                  <a:srgbClr val="0068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7120" cy="827280"/>
              <a:chOff x="5600880" y="5897520"/>
              <a:chExt cx="125712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32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616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48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264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356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ba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8E7AB4B-D868-4D01-820D-48F9CDAD1738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4032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Arial"/>
              </a:rPr>
              <a:t>Биография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24000" y="1484280"/>
            <a:ext cx="5688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radley Hand ITC"/>
              </a:rPr>
              <a:t>Родился в 1540 году в Фонтене-ле-Конт французской провинции Пуату — Шарант. Отец Виета был юристом, а мать (Маргарита Дюпон) происходила из знатной семьи, что облегчило дальнейшую карьеру её сы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radley Hand ITC"/>
              </a:rPr>
              <a:t>Учился сначала в местном францисканском монастыре, а затем — в университете Пуатье, где получил степень бакалавра (1560). С 19 лет занимался адвокатской практикой в родном город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radley Hand ITC"/>
              </a:rPr>
              <a:t>Около 1570 года подготовил «Математический Канон» — труд по тригонометрии, — который издал в Париже в 1579 году</a:t>
            </a:r>
            <a:r>
              <a:rPr b="0" lang="ru-RU" sz="2000" spc="-1" strike="noStrike">
                <a:solidFill>
                  <a:srgbClr val="ffffff"/>
                </a:solidFill>
                <a:latin typeface="Bradley Hand IT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227640" y="1989000"/>
            <a:ext cx="2729160" cy="393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radley Hand ITC"/>
              </a:rPr>
              <a:t>В 1571 году переехал в Париж и вскоре перешёл на государственную службу, но увлечение его математикой продолжало ра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radley Hand ITC"/>
              </a:rPr>
              <a:t>Благодаря связям матери и браку своей ученицы с принцем де Роганом Виет сделал блестящую карьеру и стал советником сначала короля Генриха III, а после его убийства — Генриха IV. По поручению Генриха IV Виет сумел расшифровать переписку испанских агентов во Франции, за что был даже обвинён испанским королём Филиппом II в использовании чёрной магии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radley Hand ITC"/>
              </a:rPr>
              <a:t>Когда в результате придворных интриг Виет был на несколько лет устранён от дел (1584—1588), он полностью посвятил себя математике. Изучил труды классиков (Кардано, Бомбелли, Стевина и др.). Итогом его размышлений стали несколько трудов, в которых Виет предложил новый язык «общей арифметики» — символический язык алгеб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radley Hand ITC"/>
              </a:rPr>
              <a:t>Только часть трудов этого талантливого и плодовитого учёного была издана при жизни Виета. Главное его сочинение: «Введение в аналитическое искусство» (1591), которое он рассматривал как начало всеобъемлющего трактата, но продолжить не успел. Есть некоторые указания, что учёный умер насильственной смерт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66ff"/>
                </a:solidFill>
                <a:latin typeface="Arial"/>
              </a:rPr>
              <a:t>Научная деятельность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Bradley Hand ITC"/>
              </a:rPr>
              <a:t>Виет чётко представлял себе конечную цель — разработку нового языка, своего рода обобщённой арифметики, которая даст возможность проводить математические исследования с недостижимыми ранее глубиной и общностью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radley Hand ITC"/>
              </a:rPr>
              <a:t>Все математики знали, что под их алгеброй… были скрыты несравненные сокровища, но не умели их найти; задачи, которые они считали наиболее трудными, совершенно легко решаются десятками с помощью нашего искусства, представляющего поэтому самый верный путь для математических изыска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radley Hand ITC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radley Hand ITC"/>
              </a:rPr>
              <a:t>Виет всюду делит изложение на две части: общие законы и их конкретно-числовые реализации. То есть он сначала решает задачи в общем виде, и только потом приводит числовые примеры. В общей части он обозначает буквами не только неизвестные, что уже встречалось ранее, но и все прочие параметры, для которых он придумал термин «коэффициенты» (буквально: содействующие). Виет использовал для этого только заглавные буквы — гласные для неизвестных, согласные для коэффициен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23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Arial"/>
              </a:rPr>
              <a:t>Другие заслуги Виет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radley Hand ITC"/>
              </a:rPr>
              <a:t>знаменитые «формулы Виета» для коэффициентов многочлена как функций его корн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radley Hand ITC"/>
              </a:rPr>
              <a:t>новый тригонометрический метод решения неприводимого кубического уравнения, применимый также для трисекции угл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radley Hand ITC"/>
              </a:rPr>
              <a:t>первый пример бесконечного произведе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4643280" cy="10206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68360" y="4005360"/>
            <a:ext cx="828036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buClr>
                <a:srgbClr val="afe1ff"/>
              </a:buClr>
              <a:buFont typeface="Wingdings" charset="2"/>
              <a:buChar char="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radley Hand ITC"/>
              </a:rPr>
              <a:t>полное аналитическое изложение теории уравнений первых четырёх степен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afe1ff"/>
              </a:buClr>
              <a:buFont typeface="Wingdings" charset="2"/>
              <a:buChar char="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radley Hand ITC"/>
              </a:rPr>
              <a:t>идея применения трансцендентных функций к решению алгебраических уравнен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afe1ff"/>
              </a:buClr>
              <a:buFont typeface="Wingdings" charset="2"/>
              <a:buChar char="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radley Hand ITC"/>
              </a:rPr>
              <a:t>оригинальный метод приближённого решения алгебраических уравнений с числовыми коэффициент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radley Hand ITC"/>
              </a:rPr>
              <a:t>Новая система позволила просто, ясно и компактно описать общие законы арифметики и алгоритмы. Символика Виета была сразу же оценена учёными разных стран, которые приступили к её совершенствованию. Английский учёный Томас Хэрриот в своём посмертно изданном (1631) труде уже очень близок к современной символике: вместо заглавных букв применяет строчные, степени записывает не словесно, а мультипликативно (aaa вместо a3), использует знак равенства (предложенный в 1557 году Робертом Рекордом), а также придуманные самим Хэрриотом символы сравнения «&gt;» и «&lt;». Практически окончательный вид алгебраической символике придал Декар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66ff"/>
                </a:solidFill>
                <a:latin typeface="Arial"/>
              </a:rPr>
              <a:t>Работу выполнил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2781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Ребята 9 «г» класс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группа «Историк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23:46:27Z</dcterms:created>
  <dc:creator>1</dc:creator>
  <dc:description/>
  <dc:language>en-US</dc:language>
  <cp:lastModifiedBy>1</cp:lastModifiedBy>
  <dcterms:modified xsi:type="dcterms:W3CDTF">2011-09-21T09:52:38Z</dcterms:modified>
  <cp:revision>3</cp:revision>
  <dc:subject/>
  <dc:title>Биография</dc:title>
</cp:coreProperties>
</file>